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061E-FBFF-40D5-BD4D-B6A6F4783A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8891-693A-4B5E-B0AB-2FA0F1F597B7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49E6-F7EF-47BE-B9C6-C534045E3B52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F8A1-9DE5-42D8-BAA2-55BABE523683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ubtest provide 3 questions from single dimension eg. Number,  Measurement et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or general adaptive subtest consist of 5 questions 1 from each dimension number,  chance and data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00C4-3952-44F0-AFC7-169D2E7C7631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147-1E31-49E3-80A5-DDF85652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FB5-AF22-4983-AFBE-4BEA3172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7A36-7E7C-4ADF-87F6-D3508D4F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621-3FE2-42D7-B391-30202AE0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CDE5-4EF8-41AF-B617-2CB8FED1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B38E-6D85-4A3F-8C03-3D64FD1D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6DBD-D692-410B-95D6-96B10B7C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C049-E135-4A7F-8234-98DB14AD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3135-2613-45C7-B241-4C8DD27B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F1BD-8ACD-4CE7-8BBA-F1A0CC3F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A126-E6EA-47FD-ADD1-62261DC5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C41-4E1B-45B8-99DC-FEBAEE53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BCD7-29C5-4B25-B535-6C3EDCBC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08B3-40CB-464C-A951-B34D98A2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30C7-8CB8-4D82-8332-980C389E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9C5C-2E96-4373-AE21-C1CB997C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B98B-3447-452E-AA8A-CB4E2977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7503D-EF2D-4ED2-912B-2D54B071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3F6FC-6F66-40FD-9D10-7D44BF21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ACFD5-3737-4CDD-A715-38B20837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69055-F4B0-4E92-A7F3-9F8AF45D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59436-19F5-420D-9933-7A56FB7B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81A4-51A4-40B4-8232-C4404B8E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224E7-D914-4736-9E44-4C7C9766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B20F7-B4B3-46D7-8E22-31AD977D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FC765-62A2-4052-AB02-B8E98F44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9487E-9B69-44F6-ACF9-E54CBAF7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6FD22-AC00-48A5-BB35-3746411A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E0018-1476-475F-B8B3-56A77DDC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115C5-76C8-4BF5-ADEE-86A09EFF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66699-310B-4794-BC72-00C110C2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7CD6E-8343-4433-AB5C-67F553A0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24445-C0B0-4940-9BB3-DBD2AB7B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C7B-4A1F-48C9-A067-0392D9A6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AF2CB-A3EB-43D2-B47C-E429EB18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690CA-E558-4E1B-A3C1-EC1EA36F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3AB8B-08A1-4888-8C0F-F2E287A9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DAB8D-CD1C-4331-B9C2-F8904094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271B2-ABB1-4040-A583-23FE0171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F3BD3-CEDB-46D6-AAB5-05912B5F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9024C-C671-46A8-B062-B232C8B3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077C9-55C2-4DD3-93AE-A7147EAF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EFF55-6ABE-4B4C-9636-CE89E76A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1D851-E701-42CA-840B-BEFB147D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AA9-73FA-4CCB-9CAA-7AD5F31C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25380-0349-4456-8FA9-29902767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96CEE-49A6-45C2-92CD-DBCB78E4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2E796-9474-4BEF-9809-AE8CA4D3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AD15E-0DC5-4D8B-A0A6-F6553D97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34257-D197-4023-A102-40D42CA7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F3604-7636-4BF8-92FF-DDEE581E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83042-B44D-4958-BC2D-0A69F0A8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B31B3-5BCC-4B9D-953C-9BACE2B1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9FAEF-9001-4920-ACCA-06C61B0E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3C041-0874-4625-A7A6-AFC535E8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3C1-3F2E-4CBE-B3ED-DFD9D49F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9F4A5-2D61-4952-AF5F-1A6B9F8F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30F60-8152-4553-A3E9-C88B26E5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A3E84-51E2-45A8-A8E6-3CDF192A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5CE81-1F7E-4E48-84A8-4A26D856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53974-72E3-420B-BC72-6EAE34F9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6C982-D49C-48D5-A09D-F4386AEE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FEE92-0F9F-46F5-AC27-C724082D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5B05C-543D-40BA-834C-FC98A220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00711-F28C-4216-B425-FBF5AEBB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559B0-A64A-4444-BAD4-D4513471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0EF0-6385-4026-A7E0-C6180006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76C63-D5B5-4FFF-B154-A8CA4EBA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0BF05-9F58-4F6E-A89B-3A0F1918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A7F25-E001-45AE-9045-E4F9793C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4EA17-E0DC-42F5-8B35-546C7A85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B5DB4-5BF5-4E99-B58A-9FDA5A25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96F58-F4F1-4A1C-BD7C-771B6DD0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377AA-0ECA-45AC-8F36-D1BC40CF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53CFD-8A47-4472-8F50-B055B5FC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07272-6C3B-4F84-BD61-C10F9C26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AA018-8124-4679-9C6D-246E8546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770-346B-4874-85CA-EDE43D41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F560F-61B9-4042-8B8C-591A5B50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71692-0799-4245-9A3C-A0B7F329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B02B5-DA50-4639-A4E8-952EDBFC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F1CA8-CC76-4660-A683-30C7168F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7CBAC-F4DF-4D62-AD76-5367D96C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623-29AA-4028-BFAE-046C5B69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BAF9-3C4E-458C-A92D-8C0A87F285B4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D321-2C6E-41A3-A350-FA28FCB3EDF2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B58A-1408-4E8A-9AC3-117F402C3173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B5E4-C4AC-438C-A45B-301B05D57BCF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2EBF-745B-4F74-A4CB-3D21FDDE9E2C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ACFF-2D21-42C9-A27A-EF09EC97AEF4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FEF5-B54A-44D4-8210-5B0A4130946C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caa.vic.edu.au/prep10/vels/index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03360" y="665280"/>
            <a:ext cx="8339040" cy="21747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000080" y="2214360"/>
            <a:ext cx="7772400" cy="421452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ctr">
              <a:lnSpc>
                <a:spcPct val="80000"/>
              </a:lnSpc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What is On Demand Testing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How does it work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What information can you get  from the Adaptive and Linear Tests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Corbel"/>
              </a:rPr>
              <a:t>How can you use  the information to create a class profile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AU" sz="2600" spc="-1" strike="noStrike">
                <a:solidFill>
                  <a:srgbClr val="ffff00"/>
                </a:solidFill>
                <a:latin typeface="Corbel"/>
              </a:rPr>
              <a:t>How can you use the information to focus your teaching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Student Percentage Correc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857160" y="1785960"/>
            <a:ext cx="5000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Class Raw Score by Question Standard Leve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857160" y="1785960"/>
            <a:ext cx="407196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Class Skills Repor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785880" y="1195560"/>
            <a:ext cx="392904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Student Raw Score by Question Standard Leve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350064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Student Skills Repor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000080" y="1227240"/>
            <a:ext cx="350064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ACTIVITY 2: </a:t>
            </a:r>
            <a:r>
              <a:rPr b="0" lang="en-AU" sz="1800" spc="-1" strike="noStrike">
                <a:solidFill>
                  <a:srgbClr val="c1eeff"/>
                </a:solidFill>
                <a:latin typeface="Consolas"/>
              </a:rPr>
              <a:t>Data for focused teaching</a:t>
            </a:r>
            <a:endParaRPr b="0" lang="en-US" sz="1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3038400" cy="39290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3286080" y="1285920"/>
            <a:ext cx="2735280" cy="39290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6143760" y="1285920"/>
            <a:ext cx="2763720" cy="3929040"/>
          </a:xfrm>
          <a:prstGeom prst="rect">
            <a:avLst/>
          </a:prstGeom>
          <a:ln w="0">
            <a:noFill/>
          </a:ln>
        </p:spPr>
      </p:pic>
      <p:sp>
        <p:nvSpPr>
          <p:cNvPr id="412" name="TextBox 6"/>
          <p:cNvSpPr/>
          <p:nvPr/>
        </p:nvSpPr>
        <p:spPr>
          <a:xfrm>
            <a:off x="857160" y="54291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Addition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Place Value   Decimals   Fractions   Money   Multiplication Rounding and Estimating  Di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Targeted Teach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392904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What is On Demand Testing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On Demand Testing is an online resource for teachers to use when, where and how they choose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Tests are designed to link to curriculum and </a:t>
            </a:r>
            <a:r>
              <a:rPr b="0" lang="en-AU" sz="26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standards</a:t>
            </a: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Both general ability tests and topic-specific assessments are provided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It is a time-saving tool that can be administered to a single student and/or a whole clas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The On Demand testing program utilises the VCAA Assessment Online software, a decentralised computer-based system where schools download tests from the VCAA central server and distribute them via the school's Local Area Network (LAN)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Benefi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Corbel"/>
              </a:rPr>
              <a:t>A bank of tests that relate to the Victorian Essential Learning Standards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Corbel"/>
              </a:rPr>
              <a:t>Once completed, tests are computer marked and a range of reports are available for teachers to immediately view and analyse the results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Corbel"/>
              </a:rPr>
              <a:t>On Demand tests can be used for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Corbel"/>
              </a:rPr>
              <a:t>pre-testing students prior to beginning a topic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Corbel"/>
              </a:rPr>
              <a:t>applying the same test to post-test a topic of work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Corbel"/>
              </a:rPr>
              <a:t>testing new intake students or a late arrival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Corbel"/>
              </a:rPr>
              <a:t>identifying individual student's strengths and weaknesses 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Corbel"/>
              </a:rPr>
              <a:t>confirming teacher judgments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Corbel"/>
              </a:rPr>
              <a:t>assisting in forward planning of teaching programs</a:t>
            </a:r>
            <a:r>
              <a:rPr b="1" lang="en-AU" sz="2300" spc="-1" strike="noStrike">
                <a:solidFill>
                  <a:srgbClr val="ffffff"/>
                </a:solidFill>
                <a:latin typeface="Corbel"/>
              </a:rPr>
              <a:t>.</a:t>
            </a:r>
            <a:r>
              <a:rPr b="0" lang="en-AU" sz="23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Adaptive Tes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928800" y="928800"/>
            <a:ext cx="7643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Questions to students vary according to  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Depending on responses the  system automatically provides easier or more difficult ques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Questions consist of multiple choice (most), answering with keyboard, using mouse to ‘drag and drop’ , on screen calculator  and locating  hot spo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General Test 60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Single Dimension  Test 30 questions : Number, Space,  MC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How the adaptive test work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4" name="Content Placeholder 3" descr=""/>
          <p:cNvPicPr/>
          <p:nvPr/>
        </p:nvPicPr>
        <p:blipFill>
          <a:blip r:embed="rId1"/>
          <a:stretch/>
        </p:blipFill>
        <p:spPr>
          <a:xfrm>
            <a:off x="438120" y="2500200"/>
            <a:ext cx="8477280" cy="40849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3"/>
          <p:cNvSpPr/>
          <p:nvPr/>
        </p:nvSpPr>
        <p:spPr>
          <a:xfrm>
            <a:off x="1071720" y="1428840"/>
            <a:ext cx="27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10 subtests 3qs in eac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2+ : 1 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1:    1 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4"/>
          <p:cNvSpPr/>
          <p:nvPr/>
        </p:nvSpPr>
        <p:spPr>
          <a:xfrm>
            <a:off x="4643280" y="1428840"/>
            <a:ext cx="42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12 subtests 5qs in each </a:t>
            </a:r>
            <a:r>
              <a:rPr b="0" lang="en-AU" sz="1100" spc="-1" strike="noStrike">
                <a:solidFill>
                  <a:srgbClr val="ffffff"/>
                </a:solidFill>
                <a:latin typeface="Arial"/>
              </a:rPr>
              <a:t>(sp m  cd st nu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3 +: 1 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2 - : 1 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c1eeff"/>
                </a:solidFill>
                <a:latin typeface="Consolas"/>
              </a:rPr>
              <a:t>What’s in it for the teacher:</a:t>
            </a:r>
            <a:endParaRPr b="0" lang="en-US" sz="3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4786200" y="1571760"/>
            <a:ext cx="3786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rbel"/>
              </a:rPr>
              <a:t>The Class Standard Score Report is the only option for the Adaptive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rbel"/>
              </a:rPr>
              <a:t>Standard S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rbel"/>
              </a:rPr>
              <a:t>How many questions at each level and how many cor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385776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Activity 1: Class Profi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4649760" y="2571840"/>
            <a:ext cx="4137120" cy="28018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"/>
          <p:cNvPicPr/>
          <p:nvPr/>
        </p:nvPicPr>
        <p:blipFill>
          <a:blip r:embed="rId2"/>
          <a:stretch/>
        </p:blipFill>
        <p:spPr>
          <a:xfrm>
            <a:off x="571680" y="1276200"/>
            <a:ext cx="385740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Class Profi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714240" y="1189080"/>
            <a:ext cx="811224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Linear/Progressiv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1000080" y="1214280"/>
            <a:ext cx="7143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A set of questions that use a variety of  question typ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All students receive the same questions in the same order during the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Tests are aimed at Vels level eg. 2.0 – 2.5 0r 3.5 – 4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Students responses are saved and scored by the comp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A range of different repo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571680" y="4500720"/>
            <a:ext cx="840888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0:58:04Z</dcterms:created>
  <dc:creator>Warwick Knuckey</dc:creator>
  <dc:description/>
  <dc:language>en-US</dc:language>
  <cp:lastModifiedBy>Warwick Knuckey</cp:lastModifiedBy>
  <dcterms:modified xsi:type="dcterms:W3CDTF">2010-05-20T05:01:11Z</dcterms:modified>
  <cp:revision>54</cp:revision>
  <dc:subject/>
  <dc:title>On Demand Testing</dc:title>
</cp:coreProperties>
</file>